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597A-CC79-4548-BA64-C035C82B7E57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AB6-AD35-4EBC-881E-46AD3641AEBC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CBD-FC78-4E9D-907E-D30DD8848AA2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80-7FEE-4600-8015-EBA9442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413-79BF-4DAF-B3D9-85D89C95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75E-2A3D-4645-A21F-402B224A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1D9-9E0B-494F-9D00-4A1E2E83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6B0-93A9-45FF-8703-1BDCB299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3B6-2BCD-4ACB-8B0B-1656AFA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533-CD9A-4D1B-A0B2-1D4051B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B2D-678A-4FB2-9409-2F8F8010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1A6-814E-40C3-AF00-832F4AB0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D85-722D-40A0-AF8D-F52362A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AA9-0F3E-4995-B921-CE8BAC1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62F-2917-4516-AE73-C4B6991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BD5-9445-4836-8178-ED97E3A9D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rebuchet MS"/>
              </a:rPr>
              <a:t>Sesiune de inform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rebuchet MS"/>
              </a:rPr>
              <a:t>în cadrul Programului Operațional Comun</a:t>
            </a:r>
            <a:r>
              <a:rPr b="1" lang="ro-RO" sz="36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GB" sz="3600" spc="-1" strike="noStrike">
                <a:solidFill>
                  <a:srgbClr val="003399"/>
                </a:solidFill>
                <a:latin typeface="Trebuchet MS"/>
              </a:rPr>
              <a:t>Bazinului Mării Negre 2014-20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0504d"/>
                </a:solidFill>
                <a:latin typeface="Calibri"/>
              </a:rPr>
              <a:t>Reglementări naționa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rebuchet MS"/>
              </a:rPr>
              <a:t>Gala</a:t>
            </a:r>
            <a:r>
              <a:rPr b="0" lang="ro-RO" sz="2800" spc="-1" strike="noStrike">
                <a:solidFill>
                  <a:srgbClr val="003399"/>
                </a:solidFill>
                <a:latin typeface="Trebuchet MS"/>
              </a:rPr>
              <a:t>ți, Româ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99"/>
                </a:solidFill>
                <a:latin typeface="Trebuchet MS"/>
              </a:rPr>
              <a:t>20 aprilie 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Trebuchet MS"/>
              </a:rPr>
              <a:t>Cadrul instituționa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Direcţia constatare </a:t>
            </a:r>
            <a:r>
              <a:rPr b="1" i="1" lang="it-IT" sz="2600" spc="-1" strike="noStrike" u="sng">
                <a:solidFill>
                  <a:srgbClr val="1f497d"/>
                </a:solidFill>
                <a:uFillTx/>
                <a:latin typeface="Calibri"/>
              </a:rPr>
              <a:t>şi stabilire nereguli</a:t>
            </a: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i="1" lang="it-IT" sz="2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Constat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ă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 neregulile, stabile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ş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te creanţele bugetare rezultate şi identific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ă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 debitorii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încheie procese-verbale de constatare a neregulilor şi de stabilire a creanţelor bugetare/note de constatare a neregulilor şi de stabilire a corecţiilor financiare cu valoare de titluri de creanţă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, care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 constituie titluri executorii în condiţiile legi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9525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1f497d"/>
                </a:solidFill>
                <a:latin typeface="Calibri"/>
              </a:rPr>
              <a:t>Fiecare caz de neregulă este monitorizat și raportat până la închiderea acestuia și recuperarea integrală a sumei plătite necuveni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c00000"/>
                </a:solidFill>
                <a:latin typeface="Trebuchet MS"/>
              </a:rPr>
              <a:t>Acordarea co-finanţări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România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oate 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acorda contribuți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 de la bugetul de stat la nivel de partener în procent de 8% din totalul cheltuielilor eligibile prevăzute în bugetul partenerulu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După aprobarea proiectelor, partenerii români vor semna un contract de co-finanțare cu Ministerul Dezvoltării Regionale, Administrației Publice și Fondurilor Europen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838840" y="5181480"/>
            <a:ext cx="2619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12949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umele reprezentând cofinanţarea publică asigurată de la bugetul de stat se acordă pentru proiectele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 care beneficiarii lideri/beneficiarii parteneri sunt instituţii publice sau organizaţii neguvernamentale din Români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o-finanțarea poate lua următoarele form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Resursele proprii Beneficiarului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- Contribuții financiare de către părți terțe, altele decât cele ale Uniuni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cente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de acordare 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cofinanț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ării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sunt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egale pentru toți partenerii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După primirea tranşei finale ENI, beneficiarul transmite către MDRAPFE o cerere de plată a co-finanţăr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Aceasta împreună cu documentele justificative vor fi analizate conform unui check-list şi ulterior se va emite Avizul de plat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După autorizarea tuturor direcţiilor implicate în proces, partenerul român va primi co-finanţare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c00000"/>
                </a:solidFill>
                <a:latin typeface="Trebuchet MS"/>
              </a:rPr>
              <a:t>Legislaţia privind achiziţiile publi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38280" y="1752120"/>
            <a:ext cx="6096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Statele membre - Autoritate contractantă sau o entitate contractantă - Reglementare națională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gea nr. 98/2016 privind achiziţiile publ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Î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 toate celelalte cazuri - toți beneficiarii aplică dispozițiile prevăzute la art 52,2 - 56 / ENI CBC I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18288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00000"/>
                </a:solidFill>
                <a:latin typeface="Trebuchet MS"/>
              </a:rPr>
              <a:t>Legislaţia privind ajutorul de St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40" y="21938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rdonanţa de Urgenţă a Guvernului nr. 77/2014 privind procedurile naţionale în domeniul ajutorului de stat, precum şi pentru modificarea şi completarea Legii concurenţei nr. 21/1996, modificată şi completată prine efectul Legii nr. 20/201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otărârea de Guvern nr. 437/2015 pentru procedura de aprobare şi conţinutul memorandumului prevăzut la art. 7 din Ordonanţa de Urgenţă a Guvernului nr. 77/2014 privind procedurile naţionale în domeniul ajutorului de st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4572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99"/>
                </a:solidFill>
                <a:latin typeface="Trebuchet MS"/>
              </a:rPr>
              <a:t>Simona ARGHIRE, consili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99"/>
                </a:solidFill>
                <a:latin typeface="Trebuchet MS"/>
              </a:rPr>
              <a:t>Serviciul Autorităţi Naţionale pentru Programe Europe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762120" y="21337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Trebuchet MS"/>
                <a:ea typeface="Times New Roman"/>
              </a:rPr>
              <a:t>Vă mulţumesc pentru atenţie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o-RO" sz="3600" spc="-1" strike="noStrike">
                <a:solidFill>
                  <a:srgbClr val="c00000"/>
                </a:solidFill>
                <a:latin typeface="Trebuchet MS"/>
              </a:rPr>
              <a:t>Cadrul legal europe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1f497d"/>
                </a:solidFill>
                <a:latin typeface="Calibri"/>
              </a:rPr>
              <a:t>Regulamentul nr. 232/2014 de instituire a instrumentului european de vecinătat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1f497d"/>
                </a:solidFill>
                <a:latin typeface="Calibri"/>
              </a:rPr>
              <a:t>Regulamentul Comisiei Europene nr. 897/2014 de stabilire a unor dispoziții specifice privind punerea în aplicare a programelor de cooperare transfrontalieră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vi-VN" sz="2800" spc="-1" strike="noStrike">
                <a:solidFill>
                  <a:srgbClr val="1f497d"/>
                </a:solidFill>
                <a:latin typeface="Calibri"/>
              </a:rPr>
              <a:t>finanțate în temeiul Regulamentului nr. 232/2014 al Parlamentului European și al Consiliului de instituire a unui instrument european de vecinătate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o-RO" sz="3600" spc="-1" strike="noStrike">
                <a:solidFill>
                  <a:srgbClr val="c00000"/>
                </a:solidFill>
                <a:latin typeface="Trebuchet MS"/>
              </a:rPr>
              <a:t>Cadrul legal naţional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rdonanta Guvernului nr 29/2015 privind gestionarea și utilizarea fondurilor externe nerambursabile și a cofinanțării publice naționale, pentru obiectivul „Cooperare teritorială europeană”, în perioada 2014-202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gea nr. 98/2016 privind achiziţiile publ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Ordonanţa de urgenţă nr. 66/2011 privind prevenirea, constatarea şi sancţionarea neregulilor apărute în obţinerea şi utilizarea fondurilor europene şi/sau a fondurilor publice naţionale aferente acestor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105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rebuchet MS"/>
              </a:rPr>
              <a:t>Atribu</a:t>
            </a:r>
            <a:r>
              <a:rPr b="1" i="1" lang="ro-RO" sz="3600" spc="-1" strike="noStrike">
                <a:solidFill>
                  <a:srgbClr val="c00000"/>
                </a:solidFill>
                <a:latin typeface="Trebuchet MS"/>
              </a:rPr>
              <a:t>ţ</a:t>
            </a:r>
            <a:r>
              <a:rPr b="1" i="1" lang="en-US" sz="3600" spc="-1" strike="noStrike">
                <a:solidFill>
                  <a:srgbClr val="c00000"/>
                </a:solidFill>
                <a:latin typeface="Trebuchet MS"/>
              </a:rPr>
              <a:t>iile </a:t>
            </a:r>
            <a:r>
              <a:rPr b="1" i="1" lang="ro-RO" sz="3600" spc="-1" strike="noStrike">
                <a:solidFill>
                  <a:srgbClr val="c00000"/>
                </a:solidFill>
                <a:latin typeface="Trebuchet MS"/>
              </a:rPr>
              <a:t>AN-ului pentru perioada de programare 2014-2020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3048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Art. 31 din Regulile de Implementare -</a:t>
            </a:r>
            <a:r>
              <a:rPr b="1" i="1" lang="ro-RO" sz="2800" spc="-1" strike="noStrike" u="sng">
                <a:solidFill>
                  <a:srgbClr val="1f497d"/>
                </a:solidFill>
                <a:uFillTx/>
                <a:latin typeface="Calibri"/>
              </a:rPr>
              <a:t>responsabilităţi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rearea și funcționarea eficient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ă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 a sistemelor de gestionare și de control la nivel național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igură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oordonarea generală a instituțiilor implicate la nivel național în punerea în aplicare a programului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Calibri"/>
              </a:rPr>
              <a:t>reprezintă țara în cadrul Comitetului Comun de Monitoriza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în colaborare cu AM, fiecare autoritate națională asigură</a:t>
            </a:r>
            <a:r>
              <a:rPr b="1" lang="ro-RO" sz="2800" spc="-1" strike="noStrike">
                <a:solidFill>
                  <a:srgbClr val="1f497d"/>
                </a:solidFill>
                <a:latin typeface="Calibri"/>
              </a:rPr>
              <a:t> existenţa unor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ecanisme adecvate în scopul de a preveni, detecta și corecta neregulile pe teritoriul lo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00000"/>
                </a:solidFill>
                <a:latin typeface="Trebuchet MS"/>
              </a:rPr>
              <a:t>Cadrul instituțional</a:t>
            </a:r>
            <a:br>
              <a:rPr sz="3600"/>
            </a:br>
            <a:r>
              <a:rPr b="1" i="1" lang="ro-RO" sz="2000" spc="-1" strike="noStrike">
                <a:solidFill>
                  <a:srgbClr val="c00000"/>
                </a:solidFill>
                <a:latin typeface="Trebuchet MS"/>
              </a:rPr>
              <a:t>MINISTERUL DEZVOLTĂRII REGIONALE, ADMINISTRAŢIEI PUBLICE ŞI FONDURILOR EUROPE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689040" y="2255760"/>
            <a:ext cx="77724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c00000"/>
                </a:solidFill>
                <a:latin typeface="Trebuchet MS"/>
              </a:rPr>
              <a:t>Cadrul instituționa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1f497d"/>
                </a:solidFill>
                <a:latin typeface="Calibri"/>
              </a:rPr>
              <a:t>Autoritate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it-IT" sz="2600" spc="-1" strike="noStrike">
                <a:solidFill>
                  <a:srgbClr val="1f497d"/>
                </a:solidFill>
                <a:latin typeface="Calibri"/>
              </a:rPr>
              <a:t> Națională 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Serviciul Autorităţi Naţionale pentru Programe Europe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asigură sprijin Autorității de Management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prin intermediul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 instituțiil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or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 naționale relevante astfel încât să îndeplinească obligațiile prevăzute la articolul 30 alineatul (2) din Normele de aplicare a ENI CB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Right Arrow 1"/>
          <p:cNvSpPr/>
          <p:nvPr/>
        </p:nvSpPr>
        <p:spPr>
          <a:xfrm>
            <a:off x="4343400" y="1905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Trebuchet MS"/>
              </a:rPr>
              <a:t>Cadrul instituționa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Controlul de Prim Nivel              </a:t>
            </a: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Direcţia Control de Prim Ni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-Validarea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GB" sz="2600" spc="-1" strike="noStrike">
                <a:solidFill>
                  <a:srgbClr val="1f497d"/>
                </a:solidFill>
                <a:latin typeface="Calibri"/>
              </a:rPr>
              <a:t>(100%) 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cheltuielilor efectuate în implementarea proiectelor, prin verificare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furnizării bunurilor şi serviciilor care fac obiectul finanţări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eligibilităţii cheltuielilor declarate pentru operaţiunile sau părţile de operaţiuni puse în aplicare pe teritoriul Românie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legalităţii şi conformităţii cu legislaţia naţională şi europeana a cheltuielilor declarate de fiecare partener român care participă la operaţiu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Right Arrow 3"/>
          <p:cNvSpPr/>
          <p:nvPr/>
        </p:nvSpPr>
        <p:spPr>
          <a:xfrm>
            <a:off x="4038480" y="16002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Trebuchet MS"/>
              </a:rPr>
              <a:t>Cadrul instituționa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Unitatea </a:t>
            </a:r>
            <a:r>
              <a:rPr b="1" i="1" lang="en-US" sz="2600" spc="-1" strike="noStrike" u="sng">
                <a:solidFill>
                  <a:srgbClr val="1f497d"/>
                </a:solidFill>
                <a:uFillTx/>
                <a:latin typeface="Calibri"/>
              </a:rPr>
              <a:t>gestionare nereguli</a:t>
            </a:r>
            <a:r>
              <a:rPr b="1" i="1" lang="ro-RO" sz="2600" spc="-1" strike="noStrike" u="sng">
                <a:solidFill>
                  <a:srgbClr val="1f497d"/>
                </a:solidFill>
                <a:uFillTx/>
                <a:latin typeface="Calibri"/>
              </a:rPr>
              <a:t> fonduri europe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Examinează </a:t>
            </a:r>
            <a:r>
              <a:rPr b="1" lang="en-GB" sz="2600" spc="-1" strike="noStrike">
                <a:solidFill>
                  <a:srgbClr val="1f497d"/>
                </a:solidFill>
                <a:latin typeface="Calibri"/>
              </a:rPr>
              <a:t>sesiz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ă</a:t>
            </a:r>
            <a:r>
              <a:rPr b="1" lang="en-GB" sz="2600" spc="-1" strike="noStrike">
                <a:solidFill>
                  <a:srgbClr val="1f497d"/>
                </a:solidFill>
                <a:latin typeface="Calibri"/>
              </a:rPr>
              <a:t>rile 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primite din diferite surse (formate standard, e-mail-uri, documente justificative, etc) și solicită completăr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Notifică </a:t>
            </a:r>
            <a:r>
              <a:rPr b="1" lang="it-IT" sz="2600" spc="-1" strike="noStrike">
                <a:solidFill>
                  <a:srgbClr val="1f497d"/>
                </a:solidFill>
                <a:latin typeface="Calibri"/>
              </a:rPr>
              <a:t>Direcţia constatare şi stabilire nereguli </a:t>
            </a: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în scopul de a efectua un control cu ​​privire la suspiciun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1f497d"/>
                </a:solidFill>
                <a:latin typeface="Calibri"/>
              </a:rPr>
              <a:t>Emite raportul de constatări care validează/invalidează neregula suspectată și stabileşte suma care trebuie recuperată (dacă este cazul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26:07Z</dcterms:created>
  <dc:creator>Admin</dc:creator>
  <dc:description/>
  <dc:language>en-US</dc:language>
  <cp:lastModifiedBy>Eugenia Stanciu</cp:lastModifiedBy>
  <cp:lastPrinted>2016-03-30T09:01:59Z</cp:lastPrinted>
  <dcterms:modified xsi:type="dcterms:W3CDTF">2017-05-10T10:59:20Z</dcterms:modified>
  <cp:revision>1483</cp:revision>
  <dc:subject/>
  <dc:title>PowerPoint Presentation</dc:title>
</cp:coreProperties>
</file>