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7240" y="4724280"/>
            <a:ext cx="5483520" cy="4476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38B3-261C-4B69-B5DE-F4E9D8760CEC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F3B0-45DA-493B-B299-11AB45C3D090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7240" y="4724280"/>
            <a:ext cx="54835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7240" y="4724280"/>
            <a:ext cx="54835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FFF8-6B72-4A96-AE66-FA1FD6CE5BAC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F8DB-2AD8-4296-BD54-2C20846F3836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7240" y="4724280"/>
            <a:ext cx="54835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7240" y="4724280"/>
            <a:ext cx="54835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CE7B-CA2D-4EDB-B03F-26758E22680F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7240" y="4724280"/>
            <a:ext cx="54835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9352-371A-4460-BC14-AC3F0BCFD9E0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7240" y="4724280"/>
            <a:ext cx="54835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4BAA-0FA2-4C59-8B97-BD96C9E19C66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7240" y="4724280"/>
            <a:ext cx="54835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24AA-D00D-4DB2-ABDE-D33AF9F730A0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7240" y="4724280"/>
            <a:ext cx="54835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A85A-0625-4A38-BBE4-001B5111FDED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7240" y="4724280"/>
            <a:ext cx="54835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669-7993-45D9-A5BA-5956EF93D227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7240" y="4724280"/>
            <a:ext cx="54835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0B84-2BB1-4E10-8F5A-41ACA69F34A0}" type="slidenum">
              <a:rPr b="0" lang="ro-RO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63C-44B4-4C2A-A47D-1CF1F5B5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C71-C218-4284-AC15-1F8BFCE2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66A0C-72F4-48FD-93C7-F11340B9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13786-844B-4829-9270-55858B31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8452F-1B7E-4695-A029-D9B6AF7F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617D3-7A0F-4929-A27E-2BA51F87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93FA2-1423-47C7-8B29-607B44F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6B252-C7E7-43CD-87CD-10099CA7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FE9AA-6646-4473-8A8B-9E87C09E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82A62-A79F-449E-94E8-B38CC401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2C7E7-FDBF-4978-9AE2-93F12F8A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B1A0D-A155-4946-AD2A-7496B9CB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204-FABE-45AD-88BD-7F3A1D0A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BC36E-5E35-4DC2-B001-D1B04428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ED68E-04AA-4E36-8998-BC87F7DD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04F7B-CE05-4F0B-9A14-91083735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047D3-1294-4F9B-8CDB-A5671B56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7D7AC-3894-4FC6-BEDD-2B1237B3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27AB0-1ED1-4DA5-AFE2-DB7EA19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61794-9E8A-4DEF-8D12-57430AB9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AE207-7A57-40B2-A0AF-949917B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F2FE4-9B1A-4E54-8FEC-D2FEDAAA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B6528-BCD5-4CEF-8A6B-CBA47987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631-4431-4C57-8B34-70E8BEC3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62C61-B624-4893-9882-E6DB3DFA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B6F20-DFFA-41DF-AECF-64D56AAF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2F405-8F14-4C02-8E7C-BA76DE10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BAD31-DD8E-4A07-9FDA-45BC1AB9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D1336-3A26-47AF-97A0-BD29CDDB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9E113-7DB6-45EF-898A-6250B1E8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C81FB-A011-4847-8224-25C30E09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472E8-08CE-4352-A9A5-D0D5D9B7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C2B52-4503-4E6E-8334-35545191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DD513-E4DF-446B-8EF0-C35DB7C8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BBE4-3C66-49F9-8AC0-3BA4F417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A1CB5-34CC-4265-88ED-A0CD08AB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5F24F-D40B-432E-803E-76F2CABD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213B7-D14B-4E49-9103-BB25B3D1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F9BE2-5BBE-4882-B96B-57C68267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A18EE-8507-4684-B4CD-FBBB0CA9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27242-9396-4595-9D40-D3B87078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D2CC3-A730-43E1-ABEF-4995295B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6BB61-BB94-4601-8660-94ACF64F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64F77-7E44-4017-A694-73E8982A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F7742-122E-42D4-B0D4-D0F30A75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1C65-8667-4355-A14F-2BCFEC47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804AC-A9D1-46D2-BDE1-F8656FB5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621A8-D4C3-4839-82B8-EA8F2271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0268A-E27C-40DE-8944-B9F4A690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64999-F88C-4E70-B8ED-2E1CEF60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035EF-7000-4175-87AF-AC36FCD8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BF23F-618E-49EC-8524-937D4AAB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653AB-BC45-487F-A97A-DF574040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8E7B71-B9DC-42AC-A256-E96FD493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FBD9C-6DC7-4BC7-BC05-F2316616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73188-CAA8-4D7A-B3E9-914895E0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DEB3-06E3-44F0-90CA-6A889B3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97AA8-3D66-47E6-ACEB-3F5A2E8D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61E4E-AFF9-460F-96EA-C1DCF2DD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888D8-C6AF-410F-9A0E-68C9F56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6EC4A-5DF2-4812-BE76-F1D8AD79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63583-BF9F-4152-BBFD-1ADA4BFA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40F6F-9AB7-47DB-B832-AD52831A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55FEC-8BC6-40B2-9D37-BB03A623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2590-1871-4E6B-B284-BA178CED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120E-78AC-4EC4-8514-E050F4B4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3A7A-A86B-4ABD-B21C-4A8D81AD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B891-3B3F-4BFA-8533-4C7A4C90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2BD-A6A0-4ACD-8C74-29ED3104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F927-9ACA-4C1D-938F-458075BC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AB1D-B1BF-4C99-A47A-F82B341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E1D1-A86B-4623-9890-DAB4D035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47BA-2898-45CD-ADCA-533F541A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0FE0-6642-4B9E-ADC0-10D254D6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764A-0DDA-42C3-B7F5-BFA6F871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66F3-F15B-4BCC-8DEC-A94ADCD3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1BC7-4C17-4574-AE78-768D5FA6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5A52-ACFC-455C-AC6B-524E502B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86BA-3409-43D2-AFE2-0DC90C39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BA0-08F3-4EF3-AE4E-04E56D19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77FF-3BFF-4F06-9607-423F9784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68DA-C8D1-484A-AD5A-08E576AC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2C36-F2BC-49CE-B1E3-D47D502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6F09B-8F45-46FF-B1F4-4125D5FB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4B47-E140-4AC0-9EFF-31757EB7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08E5-BE8D-4276-B4B5-8CB1A188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FA37-84AC-4E39-A6AE-7005DFBA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9CC3F-6784-4023-909F-67C8536D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3D1C-78FA-484B-B97A-A96F1A06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7F34-EADE-4E0B-9F83-CF2EF64C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F6F-2F62-441F-B355-56E28CB4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7A02-9A3E-4048-AAE7-8BE360E2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D0C7F-81F2-4968-8276-FC3379D9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922B-1664-476B-B6A7-23E07E9D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B6561-C929-47A8-8E55-E6F2A805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EF7D0-DE21-4988-ACD9-F7C05E7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109A-085C-4D3F-B811-2EE652B6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FDD5-7F94-48C2-A5A1-465D4382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5258-3F91-40E6-A476-B223F689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A98C-703D-494B-857D-DB3B2E21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923F2-2F2C-499F-8D6F-A8300DBF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DC2-CF5F-47D8-B995-9E71E01B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A7FCA-AC44-4C69-BE92-21684A60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C7718-CC8B-4CD2-86C8-FA9CD9A9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7994C-4D8D-4FDF-A8AD-DADF5943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F8CF2-E451-4FEC-B472-F7B7199F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18665-A47B-4A91-909E-4617A572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DE744-55C4-47DF-9E27-1C9D6AA5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ADC99-CB80-4F06-BE34-A60BC043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623CD-8D99-479B-83D4-9F7BF44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1A245-7F31-4300-B90A-B32D9C3A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D1128-CD34-47EB-A45C-DED372C1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040-E750-47BE-B4DB-020C60A0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8AEFE-6084-4660-BE59-AC612824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898BE-A2F9-4E93-B9B5-698C516A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FAABB-FB41-4861-8F6C-49F03779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B8E8A-99A3-4869-99AF-AAF73F8E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04FDA-7C57-4924-8D81-7AE76BFD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9566-65E4-49CE-B686-94E6F3DF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CC934-7819-4CF3-AFFB-80E4D90E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EBC39-4A3F-491E-83D4-8D434F08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AA828-7E09-4B91-BA2D-FBCE5330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04913-9998-4414-82BB-2F94E8FF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847-4DE9-43DB-9AE1-CE23D956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E5A06-BE06-4F78-9FF3-82346C6C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C85D7-D532-4743-9AE7-72730841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C3CB3-B65B-4C81-B820-BCF3F9D4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12CE7-CB98-4B73-B1C0-EF3E24F7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95DCB-4E17-4C43-9FDC-390D787F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5EED2-A3EF-44F2-9D13-3F4D61DF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CC79A-4EBB-49E4-AF15-15B341D2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62C92-4339-467A-8B59-4D5AAC79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80015-F738-4A04-B43C-5B2E4EBB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4723C-4E98-40F8-88C4-06D97D72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B5A-B146-4461-AE04-5D68D4B7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BC991-CD26-4F3E-A369-81FB92B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72E0D-3D4F-46AF-B2C8-99915BA1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AF560-1F53-4B43-878D-6781F8DA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A6606-9134-445E-9C0D-79F1CE2B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01BA7-6159-462E-A875-C289ED2E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5CECE-123E-49E3-B71A-23C0154E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D73B1-C525-4D7B-8138-535C478C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D507-53F3-409C-A690-B54C7F94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CA151-4CC8-4C4B-81B2-176679CF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5CE9F-0C19-485C-BF00-71C6321A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1F3-8E45-4338-9A0E-A613CFEF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42E2A-082B-4BF9-8A7B-DED38BD7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DB580-4D2D-44E9-B1D1-48854C2C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0D178-E4F5-4535-BBD3-1304E584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82C3D-D2FD-402F-99CC-C43FEE29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B4504-0019-40F7-919F-0DEB3B86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618E5-4C48-4A65-B0AF-3A6B6566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CCFB9-71C6-42D4-90A3-42E7DBA8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2B845-85A9-44C6-844F-1856EB20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34BB3-F622-4D3A-860E-F47630F0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143A7-52CB-4084-954E-91A95356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5184-C78F-4269-8E5D-5236E9049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1267-33E2-43A0-BD02-2F234EC9E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E099-8FEF-4960-9DC5-04B852441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3B28-E7FC-4162-92C1-721283A38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67D3-8C1E-497E-8BA7-1F8928BB0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504D-80D1-42F8-8C29-2DAFFA271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9867-500C-4FFF-9E35-1C628BE7B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5DC7-FCE8-40F7-9DD2-6333682D1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223C-2D74-4FA9-B4F9-ADCE75149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4DE9-4BF5-49E9-AAD7-E66579F8E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8885-F5DD-4BAE-A0A2-F41F76C2D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09EC-542C-4E67-8CC1-F3C03DBA2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9" descr="Ppt v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F49E-695F-4BE4-8454-8F03B6750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ing.com/images/search?q=thank+you&amp;view=detailv2&amp;adlt=strict&amp;id=066655333AE11F7014EED8DF0063DF551992CF5E&amp;selectedIndex=18&amp;ccid=nFDtz0LL&amp;simid=608036463745306292&amp;thid=OIP.M9c50edcf42cbb6d859b5881a7800be9ao0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3399"/>
                </a:solidFill>
                <a:latin typeface="Trebuchet MS"/>
                <a:ea typeface="Arial"/>
              </a:rPr>
              <a:t>Информационен де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Trebuchet MS"/>
                <a:ea typeface="Arial"/>
              </a:rPr>
              <a:t>Съвместна оперативна програма за трансгранично сътрудничество по Европейски инструмент за съседст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200" spc="-1" strike="noStrike">
                <a:solidFill>
                  <a:srgbClr val="003399"/>
                </a:solidFill>
                <a:latin typeface="Trebuchet MS"/>
                <a:ea typeface="Arial"/>
              </a:rPr>
              <a:t>„</a:t>
            </a:r>
            <a:r>
              <a:rPr b="1" lang="bg-BG" sz="4200" spc="-1" strike="noStrike">
                <a:solidFill>
                  <a:srgbClr val="003399"/>
                </a:solidFill>
                <a:latin typeface="Trebuchet MS"/>
                <a:ea typeface="Arial"/>
              </a:rPr>
              <a:t>Черноморски басейн 2014-2020“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3399"/>
                </a:solidFill>
                <a:latin typeface="Trebuchet MS"/>
                <a:ea typeface="Arial"/>
              </a:rPr>
              <a:t>Първа покана за проектни 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25568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Закон за обществените поръчки (ЗОП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04920" y="1711080"/>
            <a:ext cx="861048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81160" indent="-281160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Видове възложители;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81160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Видове процедури 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– чл. 18 от ЗО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81160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Стойностни прагове 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– чл. 20 от ЗО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81160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Специфични минимални срокове за получаване на оферти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81160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Електронен обмен на информация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 и възлагане чрез централизирана </a:t>
            </a:r>
            <a:r>
              <a:rPr b="0" lang="en-US" sz="1800" spc="-1" strike="noStrike">
                <a:solidFill>
                  <a:srgbClr val="003399"/>
                </a:solidFill>
                <a:latin typeface="Trebuchet MS"/>
                <a:ea typeface="Osaka"/>
              </a:rPr>
              <a:t>         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електронна платформа - чл. 39 и сл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81160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Нови правила за публичност 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– публикуване в Официален  вестник</a:t>
            </a:r>
            <a:r>
              <a:rPr b="0" lang="en-US" sz="1800" spc="-1" strike="noStrike">
                <a:solidFill>
                  <a:srgbClr val="003399"/>
                </a:solidFill>
                <a:latin typeface="Trebuchet MS"/>
                <a:ea typeface="Osaka"/>
              </a:rPr>
              <a:t> 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(ОВ) на ЕС чрез Агенцията по обществени поръчки (АОП); публикуване в Регистъра на обществените поръчки (РОП) след публикуване в ОВ на Е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Възможност за пазарни консултации и външно участие при подготовка на документац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304920" y="1711440"/>
            <a:ext cx="324324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9"/>
          <p:cNvSpPr/>
          <p:nvPr/>
        </p:nvSpPr>
        <p:spPr>
          <a:xfrm>
            <a:off x="333360" y="1446120"/>
            <a:ext cx="2590920" cy="0"/>
          </a:xfrm>
          <a:prstGeom prst="line">
            <a:avLst/>
          </a:prstGeom>
          <a:ln w="38160">
            <a:solidFill>
              <a:srgbClr val="45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260280" y="941400"/>
            <a:ext cx="82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Закон за обществените поръ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1"/>
          <p:cNvSpPr/>
          <p:nvPr/>
        </p:nvSpPr>
        <p:spPr>
          <a:xfrm>
            <a:off x="1805040" y="3048120"/>
            <a:ext cx="5281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260280" y="1905120"/>
            <a:ext cx="8578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-304920" y="1446120"/>
            <a:ext cx="9068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	</a:t>
            </a:r>
            <a:r>
              <a:rPr b="1" lang="bg-BG" sz="20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Видове възложите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285840">
              <a:lnSpc>
                <a:spcPct val="15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ублични – чл. 5, ал. 2 от ЗО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285840" algn="just">
              <a:lnSpc>
                <a:spcPct val="15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секторни – чл. 5, ал. 4 от ЗО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285840" algn="just">
              <a:lnSpc>
                <a:spcPct val="15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Възложител за конкретен случай – чл. 6 от ЗО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285840" algn="just">
              <a:lnSpc>
                <a:spcPct val="15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Съвместно възлагане от повече от един възложител (включително от друга държава-членка) - чл. 9 от ЗО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285840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ромяна в дефиницията за публичноправна организация - § 2, т. 43 от Допълнителните разпоредби на ЗО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285840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Особености при възложителите – кметове и кметски наместници (изискване да са разпоредители с бюдже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285840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Упълномощаване и заместване – чл. 7 от ЗО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Видове процедури (чл. 18, ал. 1 от ЗО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403280"/>
            <a:ext cx="8534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открита процедура (публични и секторни) – срок 35 дни/15 дн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ограничена процедура (публични, секторни, отбрана) – 30 дн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състезателна процедура с договаряне (публични) – 30 дн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договаряне с предварителна покана за участие (секторн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договаряне с публикуване на обявление за поръчка (отбра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99"/>
                </a:solidFill>
                <a:latin typeface="Trebuchet MS"/>
              </a:rPr>
              <a:t>    </a:t>
            </a: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и сигурнос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състезателен диалог (публични, секторни, отбран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партньорство за иновации (публични и секторн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договаряне без предварително обявяване (публичн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договаряне без предварителна покана за участие (секторн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договаряне без публикуване на обявление за поръчка (отбран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конкурс за проект (публични и секторн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публично състезание (публични и секторн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285840" algn="just">
              <a:lnSpc>
                <a:spcPct val="125000"/>
              </a:lnSpc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пряко договаряне (публични и секторн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262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304920" y="1403280"/>
            <a:ext cx="259056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Нови моменти при възлагането на обществени поръчк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286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262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262699"/>
                </a:solidFill>
                <a:latin typeface="Trebuchet MS"/>
              </a:rPr>
              <a:t>Единен европейски документ за обществените поръчки </a:t>
            </a: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– чл. 67 от ЗОП - при подаване на заявление за участие или оферта кандидатът или участникът декларира липсата на основанията за отстраняване и съответствие с критериите за подбор чрез представяне на единен европейски документ за обществени поръчки, в който предоставя съответната информация, изисквана от възложителя, и посочва националните бази данни, в които се съдържат декларираните обстоятелства, или компетентните органи, които съгласно законодателството на държавата, в която кандидатът или участникът е установен, са длъжни да предоставят информа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262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Критерий за възлагане – </a:t>
            </a:r>
            <a:r>
              <a:rPr b="1" lang="bg-BG" sz="1800" spc="-1" strike="noStrike">
                <a:solidFill>
                  <a:srgbClr val="262699"/>
                </a:solidFill>
                <a:latin typeface="Trebuchet MS"/>
              </a:rPr>
              <a:t>само икономически най-изгодна оферта </a:t>
            </a: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(чл. 70, ал. 1 и ал. 2 от ЗОП)</a:t>
            </a:r>
            <a:r>
              <a:rPr b="0" lang="en-US" sz="1800" spc="-1" strike="noStrike">
                <a:solidFill>
                  <a:srgbClr val="262699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304920" y="1698480"/>
            <a:ext cx="259056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Закон за управление на средствата от Европейските структурни и инвестиционни фондове (ЗУСЕСИФ)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2590560" cy="302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216000" y="198108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Когато партньорът не е възложител по смисъла на ЗОП, има задължението да публикува на Единния информационен портал публичната покана за определяне на изпълнител за дейностите по строителство, услуги и/или доставки на стоки – обект на обществената поръчка (чл. 52, ал 1 от ЗУСЕСИФ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убликуването не е директно, а се осъществява чрез Националния орга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ри предстояща процедура за избор на изпълнител, партньорът следва да изпрати цялата документация на електронен адрес: </a:t>
            </a:r>
            <a:r>
              <a:rPr b="0" lang="bg-BG" sz="1800" spc="-1" strike="noStrike">
                <a:solidFill>
                  <a:srgbClr val="002060"/>
                </a:solidFill>
                <a:latin typeface="Trebuchet MS"/>
                <a:ea typeface="Osaka"/>
              </a:rPr>
              <a:t>NIvanova@mrrb.government.bg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, както и копие на документацията на електронен носител по поща на адрес: София - 1202, ул. „Св. Св. Кирил и Методий” № 17-19, МРРБ, Главна дирекция „Управление на териториалното сътрудничество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Документацията за избор на изпълнител, изготвена от бенефициерите по програмите за териториално сътрудничество </a:t>
            </a:r>
            <a:r>
              <a:rPr b="1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не подлежи 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на предварителен контрол, от страна на ГД УТ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Закон за управление на средствата от Европейските структурни и инвестиционни фондове (ЗУСЕСИФ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560" y="19047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82960" indent="-28296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артньорите имат задължение да определят изпълнител чрез провеждане на процедура за избор с публична покана, когато прогнозната стойност 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78600" indent="-226080" algn="just">
              <a:lnSpc>
                <a:spcPct val="100000"/>
              </a:lnSpc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ри строителство – равна или по-висока от 50 000 лв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78600" indent="-226080" algn="just">
              <a:lnSpc>
                <a:spcPct val="100000"/>
              </a:lnSpc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ри доставки и услуги - равна или по-висока от 30 000 л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78600" indent="-226080" algn="just">
              <a:lnSpc>
                <a:spcPct val="100000"/>
              </a:lnSpc>
              <a:buClr>
                <a:srgbClr val="00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960" indent="-28296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равилата за разглеждане и оценяване на оферти и сключване на договори в процедура за избор с публична покана са определени в Постановление № 160 на МС от 01.07.2016 г. за определяне правилата за разглеждане и оценяване на оферти и сключването на договорите в процедурата за избор с публична покана от бенефициенти на безвъзмездна финансова помощ от Европейските структурни и Инвестиционни фондове (Постановление</a:t>
            </a:r>
            <a:r>
              <a:rPr b="0" lang="en-US" sz="1800" spc="-1" strike="noStrike">
                <a:solidFill>
                  <a:srgbClr val="003399"/>
                </a:solidFill>
                <a:latin typeface="Trebuchet MS"/>
                <a:ea typeface="Osaka"/>
              </a:rPr>
              <a:t> 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№ 160/01.07.2016 г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590920" cy="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Постановление № 160 на МС от 01.07.2016 г. за определяне правилата за разглеждане и оценяване на оферти и сключването на договорите в процедурата за избор с публична покана от бенефициенти на безвъзмездна финансова помощ от Европейските структурни и Инвестиционни фонд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04560" y="25142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Специфика при избор на изпълнител в случай на предоставяне на безвъзмездна финансова помощ със срок на изпълнение над една годи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Крайният срок за подаване на оферти в процедура за избор с публична покана следва да бъде съобразен със сложността на подготовка на офертата и не може да бъде по-кратък от 7 дн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262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Критерий за възлагане – </a:t>
            </a:r>
            <a:r>
              <a:rPr b="1" lang="bg-BG" sz="1800" spc="-1" strike="noStrike">
                <a:solidFill>
                  <a:srgbClr val="262699"/>
                </a:solidFill>
                <a:latin typeface="Trebuchet MS"/>
              </a:rPr>
              <a:t>само икономически най-изгодна оферта </a:t>
            </a:r>
            <a:r>
              <a:rPr b="0" lang="bg-BG" sz="1800" spc="-1" strike="noStrike">
                <a:solidFill>
                  <a:srgbClr val="262699"/>
                </a:solidFill>
                <a:latin typeface="Trebuchet MS"/>
              </a:rPr>
              <a:t>(чл. 3, ал. 1 и ал. 2 от ПМС № 160/01.07.2016 г.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62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660240" y="2411280"/>
            <a:ext cx="2590920" cy="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0520" y="16761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о всеки постъпил сигнал за нередност се извършва проверка, с цел изясняване на достоверността на изложените обстоятелств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След първоначалната проверка се изпраща писмо до партньора за  направените констатации. В срок до 10 работни дни, бенефициерът може да представи своето възражение по изложените констатации, както и допълнителни документи, относими към казу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След разглеждане на постъпилото възражение и представените доказателства се изготвя окончателен доклад до Ръководителя на НПО/НЗК с предложение за установяване на нередност и окончателно определяне на нейното финансовото изражение или с предложение постъпилият сигнал за нередност да бъде приключен със заключение за липса на нереднос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590920" cy="363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"/>
          <p:cNvPicPr/>
          <p:nvPr/>
        </p:nvPicPr>
        <p:blipFill>
          <a:blip r:embed="rId2"/>
          <a:stretch/>
        </p:blipFill>
        <p:spPr>
          <a:xfrm>
            <a:off x="25560" y="914400"/>
            <a:ext cx="77724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7" descr="http://tse1.mm.bing.net/th?&amp;id=OIP.M9c50edcf42cbb6d859b5881a7800be9ao0&amp;w=300&amp;h=240&amp;c=0&amp;pid=1.9&amp;rs=0&amp;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90512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Line 9"/>
          <p:cNvSpPr/>
          <p:nvPr/>
        </p:nvSpPr>
        <p:spPr>
          <a:xfrm>
            <a:off x="509760" y="1600200"/>
            <a:ext cx="2590560" cy="0"/>
          </a:xfrm>
          <a:prstGeom prst="line">
            <a:avLst/>
          </a:prstGeom>
          <a:ln w="38160">
            <a:solidFill>
              <a:srgbClr val="45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431640" y="1076400"/>
            <a:ext cx="85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Съдърж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Текстово поле 1"/>
          <p:cNvSpPr/>
          <p:nvPr/>
        </p:nvSpPr>
        <p:spPr>
          <a:xfrm>
            <a:off x="431640" y="1828800"/>
            <a:ext cx="8379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rebuchet MS"/>
                <a:ea typeface="Osaka"/>
              </a:rPr>
              <a:t>Национален орган и </a:t>
            </a:r>
            <a:r>
              <a:rPr b="0" lang="bg-BG" sz="2400" spc="-1" strike="noStrike">
                <a:solidFill>
                  <a:srgbClr val="003399"/>
                </a:solidFill>
                <a:latin typeface="Trebuchet MS"/>
                <a:ea typeface="Osaka"/>
              </a:rPr>
              <a:t>Звено за контрол и конта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99"/>
                </a:solidFill>
                <a:latin typeface="Trebuchet MS"/>
                <a:ea typeface="Osaka"/>
              </a:rPr>
              <a:t>Партньо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99"/>
                </a:solidFill>
                <a:latin typeface="Trebuchet MS"/>
                <a:ea typeface="Osaka"/>
              </a:rPr>
              <a:t>Първо ниво на контр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  <a:ea typeface="Osaka"/>
              </a:rPr>
              <a:t>Обществени поръчки (ЗОП, ЗУСЕСИФ и ПМС № 160/2016 г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9"/>
          <p:cNvSpPr/>
          <p:nvPr/>
        </p:nvSpPr>
        <p:spPr>
          <a:xfrm>
            <a:off x="509760" y="1600200"/>
            <a:ext cx="2590560" cy="0"/>
          </a:xfrm>
          <a:prstGeom prst="line">
            <a:avLst/>
          </a:prstGeom>
          <a:ln w="38160">
            <a:solidFill>
              <a:srgbClr val="45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431640" y="107640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Национален орган и Звено за контрол и контак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Текстово поле 1"/>
          <p:cNvSpPr/>
          <p:nvPr/>
        </p:nvSpPr>
        <p:spPr>
          <a:xfrm>
            <a:off x="403200" y="1306440"/>
            <a:ext cx="8379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Главна дирекция „Управление на териториалното сътрудничество”, Министерство на регионалното развитие и благоустройство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Osaka"/>
              </a:rPr>
              <a:t>Основни фун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Предоставяне на националното съфинансиране на българските партньор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Верифициране на разходите на българските партньори чрез системата за първо ниво на контро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Организиране на информационни събития в координация със Съвместния секретариат и Управляващия орган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Поддържане на контакти с потенциални партньори по програма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Подпомагане накандидатите на етап развитие на проектна идея, както и осигуряване на необходимата информация относно свързани с  програмата  национални изиск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Line 9"/>
          <p:cNvSpPr/>
          <p:nvPr/>
        </p:nvSpPr>
        <p:spPr>
          <a:xfrm>
            <a:off x="509760" y="1600200"/>
            <a:ext cx="2590560" cy="0"/>
          </a:xfrm>
          <a:prstGeom prst="line">
            <a:avLst/>
          </a:prstGeom>
          <a:ln w="38160">
            <a:solidFill>
              <a:srgbClr val="45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431640" y="107640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Партньор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Текстово поле 1"/>
          <p:cNvSpPr/>
          <p:nvPr/>
        </p:nvSpPr>
        <p:spPr>
          <a:xfrm>
            <a:off x="471600" y="1752480"/>
            <a:ext cx="83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9"/>
          <p:cNvSpPr/>
          <p:nvPr/>
        </p:nvSpPr>
        <p:spPr>
          <a:xfrm>
            <a:off x="135000" y="2170080"/>
            <a:ext cx="885024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1. </a:t>
            </a:r>
            <a:r>
              <a:rPr b="1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Национални, регионални и местни в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2. </a:t>
            </a:r>
            <a:r>
              <a:rPr b="1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Организации, регулирани от публичното право</a:t>
            </a: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Определението на публичноправна организация е дадено в §2, т. 43 от допълнителните разпоредби на Закона за обществените поръчки. Юридически лица с нестопанска цел, определени за извършване на общественополезна дейност, (сдружения и фондации), държавни и частни университети, еврорегиони, Европейски групи за териториално сътрудничество.</a:t>
            </a:r>
            <a:r>
              <a:rPr b="0" lang="bg-BG" sz="1400" spc="-1" strike="noStrike">
                <a:solidFill>
                  <a:srgbClr val="0f4f8f"/>
                </a:solidFill>
                <a:latin typeface="Times New Roman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Line 9"/>
          <p:cNvSpPr/>
          <p:nvPr/>
        </p:nvSpPr>
        <p:spPr>
          <a:xfrm>
            <a:off x="509760" y="1600200"/>
            <a:ext cx="2590560" cy="0"/>
          </a:xfrm>
          <a:prstGeom prst="line">
            <a:avLst/>
          </a:prstGeom>
          <a:ln w="38160">
            <a:solidFill>
              <a:srgbClr val="45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431640" y="107640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Партньор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Текстово поле 1"/>
          <p:cNvSpPr/>
          <p:nvPr/>
        </p:nvSpPr>
        <p:spPr>
          <a:xfrm>
            <a:off x="471600" y="1752480"/>
            <a:ext cx="83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9"/>
          <p:cNvSpPr/>
          <p:nvPr/>
        </p:nvSpPr>
        <p:spPr>
          <a:xfrm>
            <a:off x="108000" y="1752480"/>
            <a:ext cx="8655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rebuchet MS"/>
                <a:ea typeface="Osaka"/>
              </a:rPr>
              <a:t>3. </a:t>
            </a:r>
            <a:r>
              <a:rPr b="1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Организации, регулирани от частното право 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(</a:t>
            </a:r>
            <a:r>
              <a:rPr b="0" lang="ru-RU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Юридически лица с нестопанска цел за осъществяване на дейности в частна полза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нямат промишлен или търговски характер /ЗЮЛНЦ/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имат юридическа правосубектност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не са финансирани в по-голямата част от държавата, регионалните или местни органи или други публичноправни органи; или не са под управителния надзор на тези органи; или нямат административен, управителен или надзорен съвет, повече от половината членове на който са назначени от държавата, регионалните или местни органи или от други публичноправни орган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редоставят резултатите от проекта на широката публи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рилагат принципите на обществените поръч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9"/>
          <p:cNvSpPr/>
          <p:nvPr/>
        </p:nvSpPr>
        <p:spPr>
          <a:xfrm>
            <a:off x="509760" y="1600200"/>
            <a:ext cx="2590560" cy="0"/>
          </a:xfrm>
          <a:prstGeom prst="line">
            <a:avLst/>
          </a:prstGeom>
          <a:ln w="38160">
            <a:solidFill>
              <a:srgbClr val="45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431640" y="107640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Първо ниво на контро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2680" y="1752480"/>
            <a:ext cx="84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Всички разходи по проекта следва да бъдат верифицирани от контрольор преди да бъдат представени в Съвместния секретариат на програма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Първо ниво на контрол </a:t>
            </a: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има за цел да потвърди, че </a:t>
            </a:r>
            <a:r>
              <a:rPr b="1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извършените разходи са допустими, а имен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Спазени са правилата на Общностт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Спазени са изискванията на програма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Спазени са националните правила и изиск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Дейностите по проекта са действително извършен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Разходооправдателните документи и плащанията са коректни и правомер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509760" y="3886200"/>
            <a:ext cx="842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4040" indent="-284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Trebuchet MS"/>
                <a:ea typeface="Osak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Line 9"/>
          <p:cNvSpPr/>
          <p:nvPr/>
        </p:nvSpPr>
        <p:spPr>
          <a:xfrm>
            <a:off x="509760" y="1600200"/>
            <a:ext cx="2590560" cy="0"/>
          </a:xfrm>
          <a:prstGeom prst="line">
            <a:avLst/>
          </a:prstGeom>
          <a:ln w="38160">
            <a:solidFill>
              <a:srgbClr val="45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431640" y="106200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Система за Първо ниво на контро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184320" y="1619280"/>
            <a:ext cx="8569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16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16e"/>
                </a:solidFill>
                <a:latin typeface="Times New Roman"/>
                <a:ea typeface="ＭＳ Ｐゴシック"/>
              </a:rPr>
              <a:t>	</a:t>
            </a: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България прилага децентрализирана система за първо ниво на контрол при отчитане на разходит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	</a:t>
            </a: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Орган, отговорен за установяване на системата за контрол съгласно ПМС № 247 от 14 август 2014 г. е Министерство на регионалното развитие и благоустройствот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	</a:t>
            </a:r>
            <a:r>
              <a:rPr b="1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Списък на контрольорите </a:t>
            </a: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- съставен след проведен конкурс за външни контрольори за първо ниво на контрол на проекти по програмите за териториално сътрудничество.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   </a:t>
            </a:r>
            <a:r>
              <a:rPr b="1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Предсто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съобразяване на образците на документи на национално ниво с образците   по програма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Система за Първо ниво на контрол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28600" y="16761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Всеки партньор носи отговорност за подаване на искане за осъществяване на ПНК, в съответствие със задължението му за верификация на извършените от него разходи (препоръчително в края или до 15 (петнадесет) работни дни след приключване на съответния отчетен период по проект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Контрольорът, извършващ ПНК, предоставя на партньора доклада от извършеното ПНК, съдържащ заверени всички необходими образци по програмата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Всеки партньор следва да представи всички необходими документи от извършеното ПНК на Водещия партньор по проекта, който да обобщи информацията в искането за плащане, доклада за напредък и др., които следва да изпрати на Съвместния секретариат на програма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304920" y="1490760"/>
            <a:ext cx="2590560" cy="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Line 9"/>
          <p:cNvSpPr/>
          <p:nvPr/>
        </p:nvSpPr>
        <p:spPr>
          <a:xfrm>
            <a:off x="231840" y="1366920"/>
            <a:ext cx="2590560" cy="0"/>
          </a:xfrm>
          <a:prstGeom prst="line">
            <a:avLst/>
          </a:prstGeom>
          <a:ln w="38160">
            <a:solidFill>
              <a:srgbClr val="45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152280" y="879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Trebuchet MS"/>
                <a:ea typeface="ＭＳ Ｐゴシック"/>
              </a:rPr>
              <a:t>Разходи за Първо ниво на контр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52280" y="1366920"/>
            <a:ext cx="883296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Всеки български партньор в проект ще сключи договор за верификация с контрольор, определен от Националния орган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Разходите за контрол са допустим разход и се включват в бюджетно перо “Външна експертиза и услуги”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Размер на разходи за ПНК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До 2 400,00 лева на година, което включва командировъчни разходи и осигуровки за сметка на работодател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Възнаграждението за ПНК на партньор в проект за отчетен период о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  <a:ea typeface="Osaka"/>
              </a:rPr>
              <a:t>    </a:t>
            </a: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1 (един) месец е 200,00 ле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399"/>
                </a:solidFill>
                <a:latin typeface="Trebuchet MS"/>
                <a:ea typeface="Osaka"/>
              </a:rPr>
              <a:t>Процедурата за определяне на контрольор, както и пакета документи (вкл. образец на договор за първо ниво на контрол), свързан с нея са достъпни на официалната електронна страница на МРРБ: </a:t>
            </a:r>
            <a:r>
              <a:rPr b="0" lang="fr-FR" sz="1800" spc="-1" strike="noStrike">
                <a:solidFill>
                  <a:srgbClr val="000000"/>
                </a:solidFill>
                <a:latin typeface="Trebuchet MS"/>
                <a:ea typeface="Osaka"/>
              </a:rPr>
              <a:t>http://www.mrrb.government.bg/?controller=articles&amp;id=7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26:07Z</dcterms:created>
  <dc:creator>Admin</dc:creator>
  <dc:description/>
  <dc:language>en-US</dc:language>
  <cp:lastModifiedBy>Eugenia Stanciu</cp:lastModifiedBy>
  <cp:lastPrinted>2017-04-13T10:41:50Z</cp:lastPrinted>
  <dcterms:modified xsi:type="dcterms:W3CDTF">2017-05-10T11:50:43Z</dcterms:modified>
  <cp:revision>1070</cp:revision>
  <dc:subject/>
  <dc:title>PowerPoint Presentation</dc:title>
</cp:coreProperties>
</file>